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C5F-E5E8-4A48-B966-E952F3D3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BD0-19CB-4B7D-AF6D-CC5D812F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AD1-AEE9-4FBC-9A42-0E21CCD9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C16-AE79-451F-8972-A5FC4C4F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D96A-F1F4-4012-B0B5-45F328BD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D703-58A7-40F2-B317-A565C259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6ABA-F3D5-4346-82A4-A444F8C6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8499-823A-4FA9-9AF1-9A3F4E2A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9516-5624-4C7B-ADB9-C2A5869F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5E17-D43A-44C0-9FA3-72FBE8F3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98BD-5B82-4B5C-9F45-2238EFF2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F07-B384-4F3C-884A-8BE289B7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0CEA-1889-400C-B565-FCA44A41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2511-5752-4011-9588-187FC738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CC0E-F3B2-4BD6-8B07-17CA7167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5EC8-CCAF-48F3-8016-E5389441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0396-77E2-413B-B0FE-E3742DBA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2CA2-4C2A-4DAC-BEB7-4DD62BBC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E8CC-AEC7-424E-8EA4-15D175ED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FE4A9-8712-4AB5-B388-7D050210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A2AE-8CC4-41FA-895D-B8CF0BCF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880E-CAB8-4C2C-A0D0-8D716169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E4D-CFA9-459F-881D-EC736398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8675-CF92-4D76-8A1A-9D8F5D82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5583-9B6F-4267-9832-D246939C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7EF7-D392-436D-A7C0-F8045C55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28D2-E04E-4EAC-98D9-522CCA8D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69114-0DFB-467D-A663-AFE28A1A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17A43-F30C-42E2-AB72-E8491498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DF27-0761-4EF6-828B-942B9BD1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B9A13-1787-4B95-995E-8DEB22F4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ED5B0-CCC4-45A9-AB3C-D4FE7681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B0323-97BF-4DD3-9765-8FFADEF4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FB0-23AA-4E0A-8C2C-A44731A1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F070C-F5CA-42DD-9B35-5234843F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E9513-6342-4946-92CF-D182AA03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824D5-71AB-4F02-851A-B3C20620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63EAA-6A9C-4CC6-868F-A9C464E8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F11C8-1EB7-40E0-B04E-4E2CAF8F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40D5F-E2FD-48A9-9214-377B1E8B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3F3F2-5583-49BE-9BC5-4DF69CFA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2A124-AF2D-4B9B-98B9-E366E18E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EE01B-9C53-4F5E-8CB2-3E9A2BA8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895D7-A59B-4A62-86FC-BDD72245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8A2-8BF4-4B6E-9AF9-CBC46C3C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644CF-9766-4E18-BA2F-9D395563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9601E-EE25-4F1A-B2BB-71B1A6CD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6D716-D20C-4B21-87DC-BDA91A32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13133-15AD-497B-AFD7-0B4FB2BA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E7E6D-AC6C-4BD2-A3CD-B9A80CB9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0FF32-FE7E-43F4-A6F0-23B8E94D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343B2-FA01-4F93-BA03-2DDA3319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0ACF4-89BB-44CA-B82E-3D191B66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4C27C-B07A-4117-AA48-FDC1E59E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23BC8-165B-4501-9EBB-687EE85A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882-5ED3-4A23-9380-FE572116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ED18E-CBB4-49CD-B373-73C981AC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B50-1307-4DE9-AC1C-7F45F598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0D5A-DB3D-44B9-A7DB-4D93C3D3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E14-7751-4929-88E0-03A763C4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D4AE-DD1A-4827-96DC-ECBF49C76EFF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6C54-4015-4773-8FB8-AB2DBF48C01D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71A4-21B4-4FA5-8743-BACCAED19F4F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E0E7-333F-480C-A5DD-5407AA1D364E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80CA-D802-4B41-AE39-271BEE15C82C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ff8d3e"/>
                </a:solidFill>
                <a:latin typeface="Verdana"/>
              </a:rPr>
              <a:t>LA FÊTE NATIONALE FRANÇAIS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Alejandro Sedeño Arroy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http://www.banderas.pro/banderas/bandera-francia-3.jpg"/>
          <p:cNvPicPr/>
          <p:nvPr/>
        </p:nvPicPr>
        <p:blipFill>
          <a:blip r:embed="rId1"/>
          <a:stretch/>
        </p:blipFill>
        <p:spPr>
          <a:xfrm>
            <a:off x="468360" y="4005360"/>
            <a:ext cx="3240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4 Juill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ise de la Bastil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ête de la Fédé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http://revolution.1789.free.fr/image/prise_de_bastille.JPG"/>
          <p:cNvPicPr/>
          <p:nvPr/>
        </p:nvPicPr>
        <p:blipFill>
          <a:blip r:embed="rId1"/>
          <a:stretch/>
        </p:blipFill>
        <p:spPr>
          <a:xfrm>
            <a:off x="539640" y="3284640"/>
            <a:ext cx="3600720" cy="2905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upload.wikimedia.org/wikipedia/commons/f/f8/Fete_de_la_federation_panorama.jpg"/>
          <p:cNvPicPr/>
          <p:nvPr/>
        </p:nvPicPr>
        <p:blipFill>
          <a:blip r:embed="rId2"/>
          <a:stretch/>
        </p:blipFill>
        <p:spPr>
          <a:xfrm>
            <a:off x="4427640" y="3284640"/>
            <a:ext cx="4105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utres Fêtes avant 188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" descr="http://i31.servimg.com/u/f31/09/01/50/69/fete_n10.jpg"/>
          <p:cNvPicPr/>
          <p:nvPr/>
        </p:nvPicPr>
        <p:blipFill>
          <a:blip r:embed="rId1"/>
          <a:stretch/>
        </p:blipFill>
        <p:spPr>
          <a:xfrm>
            <a:off x="1116000" y="1916280"/>
            <a:ext cx="2646360" cy="3387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http://bagheera-r11.asso-web.com/uploaded/14juillet.jpg"/>
          <p:cNvPicPr/>
          <p:nvPr/>
        </p:nvPicPr>
        <p:blipFill>
          <a:blip r:embed="rId2"/>
          <a:stretch/>
        </p:blipFill>
        <p:spPr>
          <a:xfrm>
            <a:off x="5003640" y="3284640"/>
            <a:ext cx="2737080" cy="2868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://www.assemblee-nationale.fr/histoire/suffrage_universel/images/proclamation.jpg"/>
          <p:cNvPicPr/>
          <p:nvPr/>
        </p:nvPicPr>
        <p:blipFill>
          <a:blip r:embed="rId3"/>
          <a:stretch/>
        </p:blipFill>
        <p:spPr>
          <a:xfrm>
            <a:off x="4643280" y="1125360"/>
            <a:ext cx="331344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éléb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2" descr="http://cache.20minutes.fr/photos/2013/07/14/french-soldiers-stand-in-an-26e1-diaporama.jpg"/>
          <p:cNvPicPr/>
          <p:nvPr/>
        </p:nvPicPr>
        <p:blipFill>
          <a:blip r:embed="rId1"/>
          <a:stretch/>
        </p:blipFill>
        <p:spPr>
          <a:xfrm>
            <a:off x="755640" y="1268280"/>
            <a:ext cx="7093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éléb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http://www.mairie-petiterosselle.fr/images/actualites/feu%20d'artivice%202014.jpg"/>
          <p:cNvPicPr/>
          <p:nvPr/>
        </p:nvPicPr>
        <p:blipFill>
          <a:blip r:embed="rId1"/>
          <a:stretch/>
        </p:blipFill>
        <p:spPr>
          <a:xfrm>
            <a:off x="684360" y="1197000"/>
            <a:ext cx="7588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éléb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http://institutfrancais.pl/culture/files/2009/06/bal14.jpg"/>
          <p:cNvPicPr/>
          <p:nvPr/>
        </p:nvPicPr>
        <p:blipFill>
          <a:blip r:embed="rId1"/>
          <a:stretch/>
        </p:blipFill>
        <p:spPr>
          <a:xfrm>
            <a:off x="755640" y="1268280"/>
            <a:ext cx="734544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êt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ational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z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s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ois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" descr="http://impressions.planet-bpm.com/wp-content/uploads/2012/08/europa.jpg"/>
          <p:cNvPicPr/>
          <p:nvPr/>
        </p:nvPicPr>
        <p:blipFill>
          <a:blip r:embed="rId1"/>
          <a:stretch/>
        </p:blipFill>
        <p:spPr>
          <a:xfrm>
            <a:off x="684360" y="1700280"/>
            <a:ext cx="3958920" cy="3782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http://www.etceter.com/images/pill/283/12913-paddy.jpg"/>
          <p:cNvPicPr/>
          <p:nvPr/>
        </p:nvPicPr>
        <p:blipFill>
          <a:blip r:embed="rId2"/>
          <a:stretch/>
        </p:blipFill>
        <p:spPr>
          <a:xfrm>
            <a:off x="5148360" y="4508640"/>
            <a:ext cx="2738520" cy="1692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http://www.acercandonaciones.com/wp-content/uploads/2013/09/Fiesta-Alemania.jpg"/>
          <p:cNvPicPr/>
          <p:nvPr/>
        </p:nvPicPr>
        <p:blipFill>
          <a:blip r:embed="rId3"/>
          <a:stretch/>
        </p:blipFill>
        <p:spPr>
          <a:xfrm>
            <a:off x="5219640" y="1197000"/>
            <a:ext cx="2799000" cy="1779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http://img39.imageshack.us/img39/4864/12deoctubre01.jpg"/>
          <p:cNvPicPr/>
          <p:nvPr/>
        </p:nvPicPr>
        <p:blipFill>
          <a:blip r:embed="rId4"/>
          <a:stretch/>
        </p:blipFill>
        <p:spPr>
          <a:xfrm>
            <a:off x="5003640" y="3141720"/>
            <a:ext cx="30625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www.ilovegenerator.com/large/merci-de-votre-love-attention-132916098992.png"/>
          <p:cNvPicPr/>
          <p:nvPr/>
        </p:nvPicPr>
        <p:blipFill>
          <a:blip r:embed="rId1"/>
          <a:stretch/>
        </p:blipFill>
        <p:spPr>
          <a:xfrm>
            <a:off x="1979640" y="907920"/>
            <a:ext cx="504036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16:44:33Z</dcterms:created>
  <dc:creator>vanesa martos</dc:creator>
  <dc:description/>
  <dc:language>en-US</dc:language>
  <cp:lastModifiedBy>vanesa martos</cp:lastModifiedBy>
  <dcterms:modified xsi:type="dcterms:W3CDTF">2014-05-22T14:55:01Z</dcterms:modified>
  <cp:revision>4</cp:revision>
  <dc:subject/>
  <dc:title>LA FÊTE NATIONALE FRANÇAISE</dc:title>
</cp:coreProperties>
</file>